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166-148E-4DCF-B226-207D5431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CE3-3A36-42AB-94AD-EED87AC4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5A4-EF7B-454C-9D35-DF87355B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B78-1712-4503-8C4A-4821C1E0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4D5-D92D-4AF2-B086-C524FEA0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D26-B8A8-4E9C-9C50-73D7D75C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D0F-54D0-48DC-BD92-921D9C3B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777-91F9-446E-91B5-5987AB82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C42-C0C0-4DE6-B007-DF85F0B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065-5E57-44EB-9AA9-DFA38DE7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E26-EAF1-4366-BC5A-0C27C46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0FE-D773-464D-8A0F-EBD7DEC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2711-9433-403C-9D83-4367E7818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LOGGER!!!G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20:50:37Z</dcterms:created>
  <dc:creator>Nga Frederiksen</dc:creator>
  <dc:description/>
  <dc:language>en-US</dc:language>
  <cp:lastModifiedBy>Nga Frederiksen</cp:lastModifiedBy>
  <dcterms:modified xsi:type="dcterms:W3CDTF">2010-08-04T20:52:43Z</dcterms:modified>
  <cp:revision>2</cp:revision>
  <dc:subject/>
  <dc:title>Slide 1</dc:title>
</cp:coreProperties>
</file>